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10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НТЕГРИСАНЕ АКАДЕМСКЕ СТУДИЈЕ ФАРМ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0" y="2287080"/>
            <a:ext cx="9144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УВОД У ФАРМАЦЕУТСКУ ТЕХНО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ГИЈ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РЕДАВАЊЕ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Чврсти лековити препарат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супозитор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0" y="-360"/>
            <a:ext cx="9144000" cy="681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Недостац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нкомпатабилни са многим супстанца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дражују слузокожу због високог осмотског прити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 растварање је потребна већа количина цревног секр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од оваквих супозиторија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 формулација мора да садрж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око 20% в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мењују се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углавном з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супстанц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е з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локално деловањ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cc0000"/>
                </a:solidFill>
                <a:latin typeface="Arial"/>
              </a:rPr>
              <a:t>ШТА ТРЕБА УРАДИТИ КАД СЕ ДОБИЈЕ ПРОПИС ЗА ПРАВЉЕЊЕ СУПОЗИТОР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УТВРДИТИ КАКВО ЈЕ ДЕЛОВ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гу да делују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окал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истемс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2. УТВРДИТИ КОЈОМ МЕТОДОМ СУ ПРОПИСАНЕ КОЛИЧИНЕ СУПСТАНЦ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огу да буд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пропис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н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тодом диспензиј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ивиз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агиторије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лују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мо локал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0" y="-360"/>
            <a:ext cx="9144000" cy="681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ВАЖ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ко супстанца делује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системск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прописује се у количинама које одговарају оралној приме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ОСИМ АКО ДОЗЕ ЗА РЕКТАЛНУ ПРИМЕНУ НИСУ ПОСЕБНО НАГЛАШЕ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ко супстанца делује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локал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користе се подац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о средњој концентрацији</a:t>
            </a:r>
            <a:r>
              <a:rPr b="1" lang="sr-CS" sz="2400" spc="-1" strike="noStrike">
                <a:solidFill>
                  <a:srgbClr val="333399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333399"/>
                </a:solidFill>
                <a:latin typeface="Arial"/>
              </a:rPr>
              <a:t>ОСИМ АКО НИСУ НАВЕДЕНИ ПОСЕБНИ ПОДАЦИ ЗА РЕКТАЛНУ ПРИМЕ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-360" y="188640"/>
            <a:ext cx="891396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лог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аса супозиториј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 одрасле 2-3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ама – уобичајено 2 гр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 децу 1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агиторије 3-5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а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Баждарна вредност калупа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количина подлоге у грамима кој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а стаје у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једну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шупљин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у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калуп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аово масло 2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а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лицерол-желатинска подлога 1,3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 (густина глицe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о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3 пута већа од густине какаовог масл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итепсол 2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кроголи 1,2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0" y="-360"/>
            <a:ext cx="9144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ff"/>
                </a:solidFill>
                <a:latin typeface="Arial"/>
              </a:rPr>
              <a:t>Фактор истискивања ј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ff"/>
                </a:solidFill>
                <a:latin typeface="Arial"/>
              </a:rPr>
              <a:t>број грама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лековите супстанце</a:t>
            </a:r>
            <a:r>
              <a:rPr b="1" lang="sr-CS" sz="2800" spc="-1" strike="noStrike">
                <a:solidFill>
                  <a:srgbClr val="ff00ff"/>
                </a:solidFill>
                <a:latin typeface="Arial"/>
              </a:rPr>
              <a:t> који замењује тј. истискује 1 грам подлоге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3333cc"/>
                </a:solidFill>
                <a:latin typeface="Arial"/>
              </a:rPr>
              <a:t>Фактор истискивања –</a:t>
            </a:r>
            <a:r>
              <a:rPr b="1" lang="sr-C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зато што</a:t>
            </a:r>
            <a:r>
              <a:rPr b="1" lang="sr-C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остоји разлика у густинама подлоге и лековите сусптанц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едостаци ако се не узме у обзи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ff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ревише дозирана супозитор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ff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едовољно дозирана супозитор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0" y="0"/>
            <a:ext cx="896472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У пракси се фактор истискивања обавезно узима у обзир уколико се израђуј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3333cc"/>
                </a:solidFill>
                <a:latin typeface="Arial"/>
              </a:rPr>
              <a:t>више од 20 супозиторија 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3333cc"/>
                </a:solidFill>
                <a:latin typeface="Arial"/>
              </a:rPr>
              <a:t>маса лековите супстанце већа од 5% од укупне масе супозиторије (5% од 2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3333cc"/>
                </a:solidFill>
                <a:latin typeface="Arial"/>
              </a:rPr>
              <a:t>грам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На пр. фактор истискивања за борну киселину 1,5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1,5 грам борне киселине има исту запремину у калупу као и 1 грам какаовог мас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За какаово масло и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Witepsol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 се примењују исте баждарне вредности, док се за остале подлоге израчунавај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s://pharmlabs.unc.edu/labs/suppository/routes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33160" y="456840"/>
            <a:ext cx="838188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sr-CS" sz="28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228600" y="152280"/>
            <a:ext cx="86868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Пр. израђује се</a:t>
            </a:r>
            <a:r>
              <a:rPr b="1" lang="sr-CS" sz="28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Times New Roman"/>
              </a:rPr>
              <a:t>8 супозиторија масе 2 грама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које садрже</a:t>
            </a:r>
            <a:r>
              <a:rPr b="1" lang="sr-CS" sz="2800" spc="-1" strike="noStrike">
                <a:solidFill>
                  <a:srgbClr val="ff0000"/>
                </a:solidFill>
                <a:latin typeface="Times New Roman"/>
              </a:rPr>
              <a:t> 300 милиграма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бизмут субгала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Фактор истискивања за бизмут субгалат је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Укупно лековите супстанце за свих 8 супозиторј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 300 милиграма = 2400 милиграма = </a:t>
            </a:r>
            <a:r>
              <a:rPr b="1" lang="sr-CS" sz="2800" spc="-1" strike="noStrike">
                <a:solidFill>
                  <a:srgbClr val="0000ff"/>
                </a:solidFill>
                <a:latin typeface="Times New Roman"/>
              </a:rPr>
              <a:t>2,4 грама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 бизмут субгалата је потребно за свих 8 супозитор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ff"/>
                </a:solidFill>
                <a:latin typeface="Times New Roman"/>
              </a:rPr>
              <a:t>3 грама истискује :1 грам подлоге = </a:t>
            </a:r>
            <a:r>
              <a:rPr b="1" lang="sr-CS" sz="2800" spc="-1" strike="noStrike">
                <a:solidFill>
                  <a:srgbClr val="0000ff"/>
                </a:solidFill>
                <a:latin typeface="Times New Roman"/>
              </a:rPr>
              <a:t>2,4 грама</a:t>
            </a:r>
            <a:r>
              <a:rPr b="1" lang="sr-CS" sz="2800" spc="-1" strike="noStrike">
                <a:solidFill>
                  <a:srgbClr val="ff00ff"/>
                </a:solidFill>
                <a:latin typeface="Times New Roman"/>
              </a:rPr>
              <a:t> :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ff"/>
                </a:solidFill>
                <a:latin typeface="Times New Roman"/>
              </a:rPr>
              <a:t>x</a:t>
            </a:r>
            <a:r>
              <a:rPr b="1" lang="sr-CS" sz="2800" spc="-1" strike="noStrike">
                <a:solidFill>
                  <a:srgbClr val="ff00ff"/>
                </a:solidFill>
                <a:latin typeface="Times New Roman"/>
              </a:rPr>
              <a:t>=0,8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грама подлоге ће бити истисну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Потребна количина подлоге ј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 2 = 16 грама – </a:t>
            </a:r>
            <a:r>
              <a:rPr b="1" lang="sr-CS" sz="2800" spc="-1" strike="noStrike">
                <a:solidFill>
                  <a:srgbClr val="ff00ff"/>
                </a:solidFill>
                <a:latin typeface="Times New Roman"/>
              </a:rPr>
              <a:t>0,8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 = 15,2 гра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44560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Уколико је прописано више супстанци узимају се у обзир фактори истискивања</a:t>
            </a:r>
            <a:r>
              <a:rPr b="1" lang="sr-CS" sz="3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0000"/>
                </a:solidFill>
                <a:latin typeface="Arial"/>
              </a:rPr>
              <a:t>за све супстанце</a:t>
            </a:r>
            <a:r>
              <a:rPr b="1" lang="sr-CS" sz="32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3333cc"/>
                </a:solidFill>
                <a:latin typeface="Arial"/>
              </a:rPr>
              <a:t>ВАЖ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Када се израчуна укупна количина подлоге и укупна количина лековите супстанце онда се на то додаје још</a:t>
            </a:r>
            <a:r>
              <a:rPr b="1" lang="sr-CS" sz="3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0000"/>
                </a:solidFill>
                <a:latin typeface="Arial"/>
              </a:rPr>
              <a:t>20%</a:t>
            </a:r>
            <a:r>
              <a:rPr b="1" lang="sr-CS" sz="3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због растура тј. масе која заостаје на калупима, патени, шпатули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53520" y="404280"/>
            <a:ext cx="87901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Rp/</a:t>
            </a:r>
            <a:r>
              <a:rPr b="1" lang="sr-Latn-CS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800000"/>
                </a:solidFill>
                <a:latin typeface="Arial"/>
              </a:rPr>
              <a:t>Paracetamoli</a:t>
            </a:r>
            <a:r>
              <a:rPr b="0" lang="sr-CS" sz="2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800000"/>
                </a:solidFill>
                <a:latin typeface="Arial"/>
              </a:rPr>
              <a:t>250,00 m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800000"/>
                </a:solidFill>
                <a:latin typeface="Arial"/>
              </a:rPr>
              <a:t>Witepsoli H15 </a:t>
            </a:r>
            <a:r>
              <a:rPr b="0" lang="sr-Latn-CS" sz="2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800000"/>
                </a:solidFill>
                <a:latin typeface="Arial"/>
              </a:rPr>
              <a:t>q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sr-CS" sz="2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sr-Latn-CS" sz="2800" spc="-1" strike="noStrike">
                <a:solidFill>
                  <a:srgbClr val="800000"/>
                </a:solidFill>
                <a:latin typeface="Arial"/>
              </a:rPr>
              <a:t>M. fiat suppositor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ia</a:t>
            </a:r>
            <a:r>
              <a:rPr b="1" i="1" lang="sr-Latn-CS" sz="2800" spc="-1" strike="noStrike">
                <a:solidFill>
                  <a:srgbClr val="800000"/>
                </a:solidFill>
                <a:latin typeface="Arial"/>
              </a:rPr>
              <a:t> D.t.d. No X (dece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sr-CS" sz="2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sr-Latn-CS" sz="2800" spc="-1" strike="noStrike">
                <a:solidFill>
                  <a:srgbClr val="800000"/>
                </a:solidFill>
                <a:latin typeface="Arial"/>
              </a:rPr>
              <a:t>D.S. </a:t>
            </a:r>
            <a:r>
              <a:rPr b="1" i="1" lang="sr-CS" sz="2800" spc="-1" strike="noStrike">
                <a:solidFill>
                  <a:srgbClr val="800000"/>
                </a:solidFill>
                <a:latin typeface="Arial"/>
              </a:rPr>
              <a:t>на сваких 6 сати ставити по један 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         </a:t>
            </a:r>
            <a:r>
              <a:rPr b="1" i="1" lang="sr-CS" sz="2800" spc="-1" strike="noStrike">
                <a:solidFill>
                  <a:srgbClr val="800000"/>
                </a:solidFill>
                <a:latin typeface="Arial"/>
              </a:rPr>
              <a:t>чепић у чма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0" y="189000"/>
            <a:ext cx="9144000" cy="66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позиторије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у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мењене за апликацију у телесне шупљ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На собној температури </a:t>
            </a:r>
            <a:r>
              <a:rPr b="1" lang="sr-CS" sz="2400" spc="-1" strike="noStrike" u="sng">
                <a:solidFill>
                  <a:srgbClr val="cc0000"/>
                </a:solidFill>
                <a:uFillTx/>
                <a:latin typeface="Arial"/>
              </a:rPr>
              <a:t>су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чврсти- на телесној се топ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кталне супозитор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агиналне супозитор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ковити штапић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– стари облици – данас напуште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Предности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 педијатриј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да постоје препреке при гутањ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рзо делов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Недостаци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пријатност приме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96472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Rp/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800000"/>
                </a:solidFill>
                <a:latin typeface="Arial"/>
              </a:rPr>
              <a:t>Paracetamoli</a:t>
            </a:r>
            <a:r>
              <a:rPr b="0" lang="sr-C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r-C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r-C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800000"/>
                </a:solidFill>
                <a:latin typeface="Arial"/>
              </a:rPr>
              <a:t>250,00 m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r-C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800000"/>
                </a:solidFill>
                <a:latin typeface="Arial"/>
              </a:rPr>
              <a:t>Witepsoli H15 </a:t>
            </a:r>
            <a:r>
              <a:rPr b="0" lang="sr-Latn-C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r-C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800000"/>
                </a:solidFill>
                <a:latin typeface="Arial"/>
              </a:rPr>
              <a:t>q.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sr-C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sr-Latn-CS" sz="1800" spc="-1" strike="noStrike">
                <a:solidFill>
                  <a:srgbClr val="800000"/>
                </a:solidFill>
                <a:latin typeface="Arial"/>
              </a:rPr>
              <a:t>M. fiat suppositori</a:t>
            </a: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i="1" lang="sr-Latn-CS" sz="1800" spc="-1" strike="noStrike">
                <a:solidFill>
                  <a:srgbClr val="800000"/>
                </a:solidFill>
                <a:latin typeface="Arial"/>
              </a:rPr>
              <a:t> D.t.d. No X (dece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sr-C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sr-Latn-CS" sz="1800" spc="-1" strike="noStrike">
                <a:solidFill>
                  <a:srgbClr val="800000"/>
                </a:solidFill>
                <a:latin typeface="Arial"/>
              </a:rPr>
              <a:t>D.S. </a:t>
            </a:r>
            <a:r>
              <a:rPr b="1" i="1" lang="sr-CS" sz="1800" spc="-1" strike="noStrike">
                <a:solidFill>
                  <a:srgbClr val="800000"/>
                </a:solidFill>
                <a:latin typeface="Arial"/>
              </a:rPr>
              <a:t>на сваких 6 сати ставити по један </a:t>
            </a: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         </a:t>
            </a:r>
            <a:r>
              <a:rPr b="1" i="1" lang="sr-CS" sz="1800" spc="-1" strike="noStrike">
                <a:solidFill>
                  <a:srgbClr val="800000"/>
                </a:solidFill>
                <a:latin typeface="Arial"/>
              </a:rPr>
              <a:t>чепић у чм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Провера доз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aracetamolum Ph.Jug I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иноним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Acetaminophen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С.п.д. = 0,3 грам</a:t>
            </a: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0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грам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&lt; 0,3 гр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.п.д. није прекорач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Н.п.д. =  1 грам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0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грам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&lt; 1 гр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.п.д. није прекорач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Н.д.д. = 3 грама</a:t>
            </a: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0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5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x 4 = 1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гр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&lt; 3 г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ам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.д.д.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није прекорач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89154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Rp/</a:t>
            </a: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800000"/>
                </a:solidFill>
                <a:latin typeface="Arial"/>
              </a:rPr>
              <a:t>Paracetamoli</a:t>
            </a:r>
            <a:r>
              <a:rPr b="0" lang="sr-CS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800000"/>
                </a:solidFill>
                <a:latin typeface="Arial"/>
              </a:rPr>
              <a:t>250,00 m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0" lang="sr-Latn-CS" sz="2000" spc="-1" strike="noStrike">
                <a:solidFill>
                  <a:srgbClr val="800000"/>
                </a:solidFill>
                <a:latin typeface="Arial"/>
              </a:rPr>
              <a:t>Witepsoli H15 </a:t>
            </a:r>
            <a:r>
              <a:rPr b="0" lang="sr-Latn-CS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800000"/>
                </a:solidFill>
                <a:latin typeface="Arial"/>
              </a:rPr>
              <a:t>q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sr-Latn-CS" sz="2000" spc="-1" strike="noStrike">
                <a:solidFill>
                  <a:srgbClr val="800000"/>
                </a:solidFill>
                <a:latin typeface="Arial"/>
              </a:rPr>
              <a:t>M. fiat suppositori</a:t>
            </a: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i="1" lang="sr-Latn-CS" sz="2000" spc="-1" strike="noStrike">
                <a:solidFill>
                  <a:srgbClr val="800000"/>
                </a:solidFill>
                <a:latin typeface="Arial"/>
              </a:rPr>
              <a:t> D.t.d. No X (dec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sr-Latn-CS" sz="2000" spc="-1" strike="noStrike">
                <a:solidFill>
                  <a:srgbClr val="800000"/>
                </a:solidFill>
                <a:latin typeface="Arial"/>
              </a:rPr>
              <a:t>D.S. </a:t>
            </a:r>
            <a:r>
              <a:rPr b="1" i="1" lang="sr-CS" sz="2000" spc="-1" strike="noStrike">
                <a:solidFill>
                  <a:srgbClr val="800000"/>
                </a:solidFill>
                <a:latin typeface="Arial"/>
              </a:rPr>
              <a:t>на сваких 6 сати ставити по један чепић у чма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Баждарна вредност 2 грама за какаово масло - исто и за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Witepsol H15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Укупна маса подлоге за 10 супозиторија би требало да буде: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x 2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грам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20 грам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али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не може се занемарити фактор истискивања!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ашт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Лековите супстанце има више од 5% у односу на укупну масу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једн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супозитори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упозиторија 2 грам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нач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5%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 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0,1 гра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 свакој супозиторији </a:t>
            </a:r>
            <a:r>
              <a:rPr b="1" lang="sr-CS" sz="2800" spc="-1" strike="noStrike">
                <a:solidFill>
                  <a:srgbClr val="800000"/>
                </a:solidFill>
                <a:latin typeface="Arial"/>
              </a:rPr>
              <a:t>0,25 грам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лековите супстанц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800000"/>
                </a:solidFill>
                <a:latin typeface="Arial"/>
              </a:rPr>
              <a:t>0,25 грама 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&gt; 0,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актор истискивања за парацетамол је 1,5 па морамо узети у обзир ту количину подлоге коју ће парацетамол истиснути  и одузети је од укупне количин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1 супозиторија има 250 милиграма парацетамола = 0,25 гр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1,5 грам парацетамола истискује : 1 грам подлоге = 0,25 :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x = 0,17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грама подлоге истискује лековита супстан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0,17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10 супозиторија = 1,7 гра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9900"/>
                </a:solidFill>
                <a:latin typeface="Arial"/>
              </a:rPr>
              <a:t>Укупно подлоге за 10 суп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20 грама – 1,7 грама  = 18,3 грама подлоге + </a:t>
            </a:r>
            <a:r>
              <a:rPr b="1" lang="sr-CS" sz="2400" spc="-1" strike="noStrike">
                <a:solidFill>
                  <a:srgbClr val="ff00ff"/>
                </a:solidFill>
                <a:latin typeface="Arial"/>
              </a:rPr>
              <a:t>20%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= 21,99 грама подлог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3300"/>
                </a:solidFill>
                <a:latin typeface="Arial"/>
              </a:rPr>
              <a:t>Парацетамола:</a:t>
            </a:r>
            <a:r>
              <a:rPr b="1" lang="sr-CS" sz="2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0,25 грама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10 супозиторија = 2,5 грама + </a:t>
            </a:r>
            <a:r>
              <a:rPr b="1" lang="sr-CS" sz="2400" spc="-1" strike="noStrike">
                <a:solidFill>
                  <a:srgbClr val="ff00ff"/>
                </a:solidFill>
                <a:latin typeface="Arial"/>
              </a:rPr>
              <a:t>20%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= 3 гр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84360" y="152280"/>
            <a:ext cx="799128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Rp/</a:t>
            </a: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sr-CS" sz="2800" spc="-1" strike="noStrike">
                <a:solidFill>
                  <a:srgbClr val="800000"/>
                </a:solidFill>
                <a:latin typeface="Arial"/>
              </a:rPr>
              <a:t>А</a:t>
            </a:r>
            <a:r>
              <a:rPr b="1" lang="sr-Latn-CS" sz="2800" spc="-1" strike="noStrike">
                <a:solidFill>
                  <a:srgbClr val="800000"/>
                </a:solidFill>
                <a:latin typeface="Arial"/>
              </a:rPr>
              <a:t>minophyllini</a:t>
            </a:r>
            <a:r>
              <a:rPr b="1" lang="sr-Latn-CS" sz="2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sr-Latn-CS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sr-Latn-CS" sz="2800" spc="-1" strike="noStrike">
                <a:solidFill>
                  <a:srgbClr val="800000"/>
                </a:solidFill>
                <a:latin typeface="Arial"/>
              </a:rPr>
              <a:t>1,8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sr-CS" sz="28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1" lang="sr-CS" sz="2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sr-Latn-CS" sz="2800" spc="-1" strike="noStrike">
                <a:solidFill>
                  <a:srgbClr val="800000"/>
                </a:solidFill>
                <a:latin typeface="Arial"/>
              </a:rPr>
              <a:t>Cacao olei</a:t>
            </a:r>
            <a:r>
              <a:rPr b="1" lang="sr-Latn-CS" sz="2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sr-Latn-CS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sr-CS" sz="2800" spc="-1" strike="noStrike">
                <a:solidFill>
                  <a:srgbClr val="800000"/>
                </a:solidFill>
                <a:latin typeface="Arial"/>
              </a:rPr>
              <a:t>          </a:t>
            </a:r>
            <a:r>
              <a:rPr b="1" lang="sr-Latn-CS" sz="2800" spc="-1" strike="noStrike">
                <a:solidFill>
                  <a:srgbClr val="800000"/>
                </a:solidFill>
                <a:latin typeface="Arial"/>
              </a:rPr>
              <a:t>q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i="1" lang="sr-CS" sz="2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sr-CS" sz="2800" spc="-1" strike="noStrike">
                <a:solidFill>
                  <a:srgbClr val="8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sr-CS" sz="2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sr-Latn-CS" sz="2800" spc="-1" strike="noStrike">
                <a:solidFill>
                  <a:srgbClr val="800000"/>
                </a:solidFill>
                <a:latin typeface="Arial"/>
              </a:rPr>
              <a:t>M. fiat suppositori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800" spc="-1" strike="noStrike">
                <a:solidFill>
                  <a:srgbClr val="800000"/>
                </a:solidFill>
                <a:latin typeface="Arial"/>
              </a:rPr>
              <a:t>      </a:t>
            </a:r>
            <a:r>
              <a:rPr b="1" i="1" lang="sr-CS" sz="2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sr-Latn-CS" sz="2800" spc="-1" strike="noStrike">
                <a:solidFill>
                  <a:srgbClr val="800000"/>
                </a:solidFill>
                <a:latin typeface="Arial"/>
              </a:rPr>
              <a:t>Div. in dos.aeq. No V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i="1" lang="sr-Latn-CS" sz="2800" spc="-1" strike="noStrike">
                <a:solidFill>
                  <a:srgbClr val="800000"/>
                </a:solidFill>
                <a:latin typeface="Arial"/>
              </a:rPr>
              <a:t>(quinqu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800" spc="-1" strike="noStrike">
                <a:solidFill>
                  <a:srgbClr val="800000"/>
                </a:solidFill>
                <a:latin typeface="Arial"/>
              </a:rPr>
              <a:t>      </a:t>
            </a:r>
            <a:r>
              <a:rPr b="1" i="1" lang="sr-CS" sz="2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sr-Latn-CS" sz="2800" spc="-1" strike="noStrike">
                <a:solidFill>
                  <a:srgbClr val="800000"/>
                </a:solidFill>
                <a:latin typeface="Arial"/>
              </a:rPr>
              <a:t>D.S. </a:t>
            </a:r>
            <a:r>
              <a:rPr b="1" i="1" lang="sr-CS" sz="2800" spc="-1" strike="noStrike">
                <a:solidFill>
                  <a:srgbClr val="800000"/>
                </a:solidFill>
                <a:latin typeface="Arial"/>
              </a:rPr>
              <a:t>Једну супозиторију ставити у </a:t>
            </a:r>
            <a:r>
              <a:rPr b="1" i="1" lang="sr-CS" sz="2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sr-CS" sz="2800" spc="-1" strike="noStrike">
                <a:solidFill>
                  <a:srgbClr val="800000"/>
                </a:solidFill>
                <a:latin typeface="Arial"/>
              </a:rPr>
              <a:t>чмар  пред спава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Rp/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А</a:t>
            </a:r>
            <a:r>
              <a:rPr b="1" lang="sr-Latn-CS" sz="2000" spc="-1" strike="noStrike">
                <a:solidFill>
                  <a:srgbClr val="800000"/>
                </a:solidFill>
                <a:latin typeface="Arial"/>
              </a:rPr>
              <a:t>minophyllini</a:t>
            </a:r>
            <a:r>
              <a:rPr b="1" lang="sr-Latn-CS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        </a:t>
            </a:r>
            <a:r>
              <a:rPr b="1" lang="sr-Latn-CS" sz="2000" spc="-1" strike="noStrike">
                <a:solidFill>
                  <a:srgbClr val="800000"/>
                </a:solidFill>
                <a:latin typeface="Arial"/>
              </a:rPr>
              <a:t>1,8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1" lang="sr-Latn-CS" sz="2000" spc="-1" strike="noStrike">
                <a:solidFill>
                  <a:srgbClr val="800000"/>
                </a:solidFill>
                <a:latin typeface="Arial"/>
              </a:rPr>
              <a:t>Cacao olei</a:t>
            </a:r>
            <a:r>
              <a:rPr b="1" lang="sr-Latn-CS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          </a:t>
            </a:r>
            <a:r>
              <a:rPr b="1" lang="sr-Latn-CS" sz="2000" spc="-1" strike="noStrike">
                <a:solidFill>
                  <a:srgbClr val="800000"/>
                </a:solidFill>
                <a:latin typeface="Arial"/>
              </a:rPr>
              <a:t> q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i="1" lang="sr-CS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sr-CS" sz="20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1" i="1" lang="sr-Latn-CS" sz="2000" spc="-1" strike="noStrike">
                <a:solidFill>
                  <a:srgbClr val="800000"/>
                </a:solidFill>
                <a:latin typeface="Arial"/>
              </a:rPr>
              <a:t>M. fiat suppositori</a:t>
            </a: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800000"/>
                </a:solidFill>
                <a:latin typeface="Arial"/>
              </a:rPr>
              <a:t>      </a:t>
            </a:r>
            <a:r>
              <a:rPr b="1" i="1" lang="sr-Latn-CS" sz="2000" spc="-1" strike="noStrike">
                <a:solidFill>
                  <a:srgbClr val="800000"/>
                </a:solidFill>
                <a:latin typeface="Arial"/>
              </a:rPr>
              <a:t>Div. in dos.aeq. No V(quinqu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800000"/>
                </a:solidFill>
                <a:latin typeface="Arial"/>
              </a:rPr>
              <a:t>      </a:t>
            </a:r>
            <a:r>
              <a:rPr b="1" i="1" lang="sr-Latn-CS" sz="2000" spc="-1" strike="noStrike">
                <a:solidFill>
                  <a:srgbClr val="800000"/>
                </a:solidFill>
                <a:latin typeface="Arial"/>
              </a:rPr>
              <a:t>D.S. </a:t>
            </a:r>
            <a:r>
              <a:rPr b="1" i="1" lang="sr-CS" sz="2000" spc="-1" strike="noStrike">
                <a:solidFill>
                  <a:srgbClr val="800000"/>
                </a:solidFill>
                <a:latin typeface="Arial"/>
              </a:rPr>
              <a:t>Једну супозиторију ставити у чмар  пред спава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 u="sng">
                <a:solidFill>
                  <a:srgbClr val="000000"/>
                </a:solidFill>
                <a:uFillTx/>
                <a:latin typeface="Arial"/>
              </a:rPr>
              <a:t>Провера дозе А</a:t>
            </a:r>
            <a:r>
              <a:rPr b="0" lang="sr-Latn-CS" sz="2200" spc="-1" strike="noStrike" u="sng">
                <a:solidFill>
                  <a:srgbClr val="000000"/>
                </a:solidFill>
                <a:uFillTx/>
                <a:latin typeface="Arial"/>
              </a:rPr>
              <a:t>minophyllinum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Ph.Jug IV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.п.д. = 0,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грам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.п.д. = 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0,5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гра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.д.д. =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1,5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грама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9900"/>
                </a:solidFill>
                <a:latin typeface="Arial"/>
              </a:rPr>
              <a:t>ПАЖЊА!!!- ФАРМАКОПЕЈА ПОСЕБНО НАВОДИ: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А</a:t>
            </a:r>
            <a:r>
              <a:rPr b="1" lang="sr-Latn-CS" sz="2400" spc="-1" strike="noStrike">
                <a:solidFill>
                  <a:srgbClr val="cc0000"/>
                </a:solidFill>
                <a:latin typeface="Arial"/>
              </a:rPr>
              <a:t>minophyllini suppositoria - Ph.Jug IV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једна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супозиторија</a:t>
            </a:r>
            <a:r>
              <a:rPr b="1" lang="sr-Latn-C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садржи 360 милиграма аминофилина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1,8 : 5 = 0,36 = 0,36 грама  с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п.д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није прекорач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0,36 &lt; 0,5 н.д.д. није прекорач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0,36 &lt; 1,5 н.д.д. није прекорач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51920" y="152280"/>
            <a:ext cx="87901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алупи - баждарна вредност 2 гр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а какаово масл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купна маса подлоге за 5 супозиторија би требало да буде 10 грама, али се</a:t>
            </a:r>
            <a:r>
              <a:rPr b="0" lang="sr-CS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0000"/>
                </a:solidFill>
                <a:latin typeface="Arial"/>
              </a:rPr>
              <a:t>не може занемарити фактор истискивања</a:t>
            </a:r>
            <a:r>
              <a:rPr b="0" lang="sr-CS" sz="2800" spc="-1" strike="noStrike">
                <a:solidFill>
                  <a:srgbClr val="80808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р лековите супстанце има више од 5% у односу на укупну масу једне супозитор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супозиторија 2 грама - 5% је</a:t>
            </a:r>
            <a:r>
              <a:rPr b="1" lang="sr-CS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0,1 грам</a:t>
            </a:r>
            <a:r>
              <a:rPr b="1" lang="sr-CS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а ми имамо у свакој супозиторији</a:t>
            </a:r>
            <a:r>
              <a:rPr b="1" lang="sr-CS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0,36 грама</a:t>
            </a:r>
            <a:r>
              <a:rPr b="1" lang="sr-CS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лековите супстанце.</a:t>
            </a:r>
            <a:r>
              <a:rPr b="1" lang="sr-CS" sz="2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c0000"/>
                </a:solidFill>
                <a:latin typeface="Arial"/>
              </a:rPr>
              <a:t>0,36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&gt;0,1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08000" y="115560"/>
            <a:ext cx="844704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Фактор истискивања за аминофилин  1,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1 супозиторија има 360 милиграма аминофилина = 0,36 гра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1,5 грам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аминофилина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 истискује : 1 грам подлоге = 0,36 :</a:t>
            </a: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x = 0,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24 гр. подлоге истискује аминоф. из 1 супо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0,24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5 супозиторија = </a:t>
            </a:r>
            <a:r>
              <a:rPr b="1" lang="sr-CS" sz="2800" spc="-1" strike="noStrike">
                <a:solidFill>
                  <a:srgbClr val="0000ff"/>
                </a:solidFill>
                <a:latin typeface="Arial"/>
              </a:rPr>
              <a:t>1,2 гр.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 подлоге истискује аминофилин у свих 5 супо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9900"/>
                </a:solidFill>
                <a:latin typeface="Arial"/>
              </a:rPr>
              <a:t>Укупно подлоге за 5 супозиторија:</a:t>
            </a:r>
            <a:r>
              <a:rPr b="1" lang="sr-CS" sz="2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10 грама – </a:t>
            </a:r>
            <a:r>
              <a:rPr b="1" lang="sr-CS" sz="2800" spc="-1" strike="noStrike">
                <a:solidFill>
                  <a:srgbClr val="0000ff"/>
                </a:solidFill>
                <a:latin typeface="Arial"/>
              </a:rPr>
              <a:t>1,2 грама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  = 8,8 грама подлоге + </a:t>
            </a:r>
            <a:r>
              <a:rPr b="1" lang="sr-CS" sz="2800" spc="-1" strike="noStrike">
                <a:solidFill>
                  <a:srgbClr val="ff00ff"/>
                </a:solidFill>
                <a:latin typeface="Arial"/>
              </a:rPr>
              <a:t>20%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 = 10,56 грама подлог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3300"/>
                </a:solidFill>
                <a:latin typeface="Arial"/>
              </a:rPr>
              <a:t>Аминофилина:</a:t>
            </a:r>
            <a:r>
              <a:rPr b="1" lang="sr-CS" sz="2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0,36 грама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5 супозиторија = 1,8 грама + </a:t>
            </a:r>
            <a:r>
              <a:rPr b="1" lang="sr-CS" sz="2800" spc="-1" strike="noStrike">
                <a:solidFill>
                  <a:srgbClr val="ff00ff"/>
                </a:solidFill>
                <a:latin typeface="Arial"/>
              </a:rPr>
              <a:t>20%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 = 2,16 гра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cc0000"/>
                </a:solidFill>
                <a:latin typeface="Arial"/>
              </a:rPr>
              <a:t>Супозиторија за локалну примену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Rp/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Bismuti subgallatis          0,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Zinci oxydi                      0,25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Witepsoli                        q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M.f.suppositor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D.t.d. N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D.S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упозиторију днев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Маса 1 супозиторије је 2 грама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Bismuti subg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 (Ph Jug IV)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редња конц.1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0,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100 : x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 =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5%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 10%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н. није прекорач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Zincum oxidum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(MF 2008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редња конц.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0,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 = 100 : x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 =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12,5%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%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н. није прекора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cc0000"/>
                </a:solidFill>
                <a:latin typeface="Arial"/>
              </a:rPr>
              <a:t>КАДА СЕ ФОРМУЛИШУ СУПОЗИТОРИЈ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78920" y="1557000"/>
            <a:ext cx="87138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АДА ЈЕ ЛЕК НЕСТАБИЛАН У ГИТ-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АДА СЕ СНАЖНО МЕТАБОЛИШЕ У ЈЕТ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АДА ИРИТИРА ГИТ НАКОН ОРАЛНЕ ПРИМЕ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0" y="-360"/>
            <a:ext cx="9144000" cy="681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 супозиторијама лековита супстанц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растворена или суспендована у подлози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лога отпушта лековиту супстанцу на телесној температури у крвоток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– локално или системско делов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хтеви за подлог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а се топи или раствара на телесној температу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а није токсична и иритирајућа за слузокожу дебелог цр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а се 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нтракт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волумен при хлађењ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а буде 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козн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да би седиментација супстанце била м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а је компатибил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а лековитим и помоћним материј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а може д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ма хидр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ил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или липофилн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раствор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тојан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током чув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0" y="189000"/>
            <a:ext cx="9144000" cy="66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логе за супозитор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идрофилн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и 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пофил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Липофил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аово ма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лусинтетске подлог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800000"/>
                </a:solidFill>
                <a:uFillTx/>
                <a:latin typeface="Arial"/>
              </a:rPr>
              <a:t>Какаово масл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најстарија подлога, смеша триглицерида палмитинске, стеаринске, линолне и линолеинске кисели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опи се на 30-35 степ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лабе физичке карактеристике и хемијске особ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 постојање оштре тачке топљења (смеша више једињењ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јава полиморфизма (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ß’,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разликују се по тачки топљењ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0" y="-360"/>
            <a:ext cx="9144000" cy="681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да се каков путер загреје преко 36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епени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 потом охлади његова тачка топљења се снижав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– немогућност очвршћав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РЕШЕЊЕ ПРОБЛ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аов путер загревати на температури нижој од 36 степени и оставити један део неотопљ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д укупне масе одвојити 20% и додати отопљеној маси на температури испод 36 степ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НЕДОСТАЦИ КАКАОВОГ МАСЛ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аов маслац не може да веже већу количину в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лупи се морају подмазивати пре изливањ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0" y="-360"/>
            <a:ext cx="9144000" cy="681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Полусинтетске липофилне подлоге</a:t>
            </a:r>
            <a:r>
              <a:rPr b="1" lang="sr-CS" sz="28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ttibase®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hydag®, Hydrokote®, Suppocire®, Witepsol®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едно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ма полиморфизма – нема опасности од прегрев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ала разлика између тачке топљења и очвршћавања – седиментација лековите супстанце минимал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мазивање калупа није потреб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гу да примају в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 хемијском саставу – триглицериди виших масних киселина којима се понекад додају моно и ди-глицери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0" y="-360"/>
            <a:ext cx="9144000" cy="681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Хидрофилне подлог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лицерол – желатин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кроголне подлог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Глицерол – желатинска подл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позиторије су провидне и еластич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ицинална по многим фармакопеј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астоји се од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делова глицерола, 2 дела желатин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4 дела в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лицерол даје еластичност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али испољава и лаксантно делов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Током израде треба водити рачу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а се не уклопи ваздух мешањ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 изливања скинути пе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опао раствор треба да одстоји пре излив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 калупа се вади након неколико сати због очвршћав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0" y="-360"/>
            <a:ext cx="9144000" cy="681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едно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лако се топи на температури т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достац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микробиолошка контаминација (неопходна употреба конзерванаса) и инкомпатабилност са многим лековитим супстанц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ристи се за израду вагитор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Синтетске хидрофилне подлог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меше полиетиленгликол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ПЕГ-ови)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– макрого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гу бити течни или чвр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значавају се бројем који представља молекулску ма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мбинују 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стварају се у во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лупи се не подмазу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 подлежу расту микроорганиз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Snezana Cupara</cp:lastModifiedBy>
  <dcterms:modified xsi:type="dcterms:W3CDTF">2021-04-26T10:47:09Z</dcterms:modified>
  <cp:revision>57</cp:revision>
  <dc:subject/>
  <dc:title>Slide 1</dc:title>
</cp:coreProperties>
</file>